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9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15.gif" ContentType="image/gif"/>
  <Override PartName="/ppt/media/image59.jpeg" ContentType="image/jpeg"/>
  <Override PartName="/ppt/media/image28.gif" ContentType="image/gif"/>
  <Override PartName="/ppt/media/image58.jpeg" ContentType="image/jpeg"/>
  <Override PartName="/ppt/media/image2.wmf" ContentType="image/x-wmf"/>
  <Override PartName="/ppt/media/image21.jpeg" ContentType="image/jpeg"/>
  <Override PartName="/ppt/media/image18.gif" ContentType="image/gif"/>
  <Override PartName="/ppt/media/image6.gif" ContentType="image/gif"/>
  <Override PartName="/ppt/media/image23.jpeg" ContentType="image/jpeg"/>
  <Override PartName="/ppt/media/image17.gif" ContentType="image/gif"/>
  <Override PartName="/ppt/media/image50.jpeg" ContentType="image/jpeg"/>
  <Override PartName="/ppt/media/image19.gif" ContentType="image/gif"/>
  <Override PartName="/ppt/media/image69.jpeg" ContentType="image/jpeg"/>
  <Override PartName="/ppt/media/image9.wmf" ContentType="image/x-wmf"/>
  <Override PartName="/ppt/media/image67.wmf" ContentType="image/x-wmf"/>
  <Override PartName="/ppt/media/image66.wmf" ContentType="image/x-wmf"/>
  <Override PartName="/ppt/media/image63.jpeg" ContentType="image/jpeg"/>
  <Override PartName="/ppt/media/image43.jpeg" ContentType="image/jpeg"/>
  <Override PartName="/ppt/media/image25.gif" ContentType="image/gif"/>
  <Override PartName="/ppt/media/image52.jpeg" ContentType="image/jpeg"/>
  <Override PartName="/ppt/media/image29.jpeg" ContentType="image/jpeg"/>
  <Override PartName="/ppt/media/image33.wmf" ContentType="image/x-wmf"/>
  <Override PartName="/ppt/media/image65.wmf" ContentType="image/x-wmf"/>
  <Override PartName="/ppt/media/image70.jpeg" ContentType="image/jpeg"/>
  <Override PartName="/ppt/media/image42.gif" ContentType="image/gif"/>
  <Override PartName="/ppt/media/image26.jpeg" ContentType="image/jpeg"/>
  <Override PartName="/ppt/media/image62.jpeg" ContentType="image/jpeg"/>
  <Override PartName="/ppt/media/image16.gif" ContentType="image/gif"/>
  <Override PartName="/ppt/media/image64.jpeg" ContentType="image/jpeg"/>
  <Override PartName="/ppt/media/image61.jpeg" ContentType="image/jpeg"/>
  <Override PartName="/ppt/media/image56.gif" ContentType="image/gif"/>
  <Override PartName="/ppt/media/image4.wmf" ContentType="image/x-wmf"/>
  <Override PartName="/ppt/media/image8.gif" ContentType="image/gif"/>
  <Override PartName="/ppt/media/image38.gif" ContentType="image/gif"/>
  <Override PartName="/ppt/media/image27.jpeg" ContentType="image/jpeg"/>
  <Override PartName="/ppt/media/image5.wmf" ContentType="image/x-wmf"/>
  <Override PartName="/ppt/media/image22.gif" ContentType="image/gif"/>
  <Override PartName="/ppt/media/image10.wmf" ContentType="image/x-wmf"/>
  <Override PartName="/ppt/media/image1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3.gif" ContentType="image/gif"/>
  <Override PartName="/ppt/media/image48.jpeg" ContentType="image/jpeg"/>
  <Override PartName="/ppt/media/image31.gif" ContentType="image/gif"/>
  <Override PartName="/ppt/media/image32.jpeg" ContentType="image/jpeg"/>
  <Override PartName="/ppt/media/image34.jpeg" ContentType="image/jpeg"/>
  <Override PartName="/ppt/media/image44.gif" ContentType="image/gif"/>
  <Override PartName="/ppt/media/image68.wmf" ContentType="image/x-wmf"/>
  <Override PartName="/ppt/media/image35.jpeg" ContentType="image/jpeg"/>
  <Override PartName="/ppt/media/image36.jpeg" ContentType="image/jpeg"/>
  <Override PartName="/ppt/media/image39.jpeg" ContentType="image/jpeg"/>
  <Override PartName="/ppt/media/image11.wmf" ContentType="image/x-wmf"/>
  <Override PartName="/ppt/media/image51.gif" ContentType="image/gif"/>
  <Override PartName="/ppt/media/image4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578-97E2-41AC-A54D-0BC4DA8C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DCF-BD65-4BAE-AE71-C1BEE8A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510-00B5-4444-A7BD-8885C6E3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D74-1B19-44C1-9696-31C36B36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18C-42F0-4750-B0F6-B26A040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843-3759-4BA2-8D4C-4E93C3AA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946-2B8B-4252-AA55-B65A9DC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817-6521-4222-9674-6923AAFE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06A-6889-4CA6-88CB-9267313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BFB-F38A-44D4-BF68-FFD6191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935-3560-498B-B419-7A8811E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34A-00D5-4282-B2A4-0DABA05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3024-8B88-4575-8066-DFE8906B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271440"/>
            <a:ext cx="28083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98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зарт, азарт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350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537080" cy="344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661000"/>
            <a:ext cx="27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торви хвос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66100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ранспортир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ще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7636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3594240"/>
            <a:ext cx="4680000" cy="306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15772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енды-миш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ля «серс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656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34136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тойки для об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1655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1440" cy="31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4897440" cy="317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177336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ыж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вой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креп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365720"/>
            <a:ext cx="295092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амодельные само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огическ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32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Моменты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  соревновани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594972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янем-потям!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89744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95640" cy="405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ошибись с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305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Учителя - ученики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64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3528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риятного аппетит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440320"/>
            <a:ext cx="2087280" cy="12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289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37240" y="404640"/>
            <a:ext cx="411480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28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Резинки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149720"/>
            <a:ext cx="2376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лед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1280" cy="316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9810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нн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арье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1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27640" y="1413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«Верёвки-мотал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869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Тряп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мя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08720" cy="29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12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12536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Рыб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«рыбки» и «удоч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тряпичные мячики и рези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2421000"/>
            <a:ext cx="87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18472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8760" y="836640"/>
            <a:ext cx="340344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Ходу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Бой подуш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259272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73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22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втопокр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3032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07376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92720" y="620640"/>
            <a:ext cx="3079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Обши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тка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оро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Флаж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стой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963360" cy="9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656240" cy="515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2349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дельные клю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521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аканчики из-под йог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81080" y="4221000"/>
            <a:ext cx="194472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523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944720" cy="181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5516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Найди приз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23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11280" y="18900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Бег в мешк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5185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0920" y="189000"/>
            <a:ext cx="57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Сборная «Мы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1640" y="1930320"/>
            <a:ext cx="19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у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29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8252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Колючая проволо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620640"/>
            <a:ext cx="640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илюри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ри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тров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4192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44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предметные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9436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математикой – «Собери моза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32200" cy="197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26400" y="407664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916760" y="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2298600"/>
            <a:ext cx="2519640" cy="19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2494080"/>
            <a:ext cx="273528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24440" cy="630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419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люрик      Ирина Пет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360" y="1915920"/>
            <a:ext cx="4751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 года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высшей категории, педагогический стаж работы  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ёт уроки физкультуры в 1-4 класса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секции: «Олимпиец» «Подвижные игры», «Спортивный ч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ивный курс «Физическая культура»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3567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890800" cy="453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8000" cy="182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42320" y="0"/>
            <a:ext cx="210168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1160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557360"/>
            <a:ext cx="896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208764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458720" cy="18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63224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376720" cy="15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64000" y="260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120" y="55897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234936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ИЧЕСКАЯ 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КУЛЬТУРА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869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один из компон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здоровьесберег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765000"/>
            <a:ext cx="7416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споль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нестандар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нвент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з подсоб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матери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77626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игры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сё!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уроках и при проведении внеклассных мероприятий используется нестандартный инвентарь, изготовленный из подручного и подсо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780320" y="260280"/>
            <a:ext cx="10746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056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Одним из примеров проведения мероприятий являются соревнования по программе «Весёлые старты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2636640"/>
            <a:ext cx="331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их принимают участие учащиеся начальной школы, среднего звена, а также старшеклассники совместно с учителями школы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7348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Ирина</cp:lastModifiedBy>
  <dcterms:modified xsi:type="dcterms:W3CDTF">2006-09-20T04:11:27Z</dcterms:modified>
  <cp:revision>9</cp:revision>
  <dc:subject/>
  <dc:title>Слайд 1</dc:title>
</cp:coreProperties>
</file>